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4FD-C593-47AF-B2E9-F8BF7A72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A5D-DB0F-4090-929E-FB0873C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4B8-85FA-492A-8575-4B15203C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FF7-B0B9-49AD-95AB-99273BC8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C86E-4AA5-4895-AD12-CDB5F00B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160C-2B98-4B6F-9B7F-22725B6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4EC2-8794-494A-83ED-AC6B0D4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43B5-1361-4192-B8B3-11A43B2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B8A-D75F-4A62-9FC4-32F4C4F4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629-7E72-4D97-B79D-A3162BC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28D-46B8-4EAB-8F1A-A837099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AE9-5DDF-467F-873E-64870FC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6CA9-D2F2-4C92-B585-1A720DF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6E38-2A55-48AB-B43A-F74FCE7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C091-2FE3-4D96-A5C8-8FC3392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4F0-D3FE-4060-9328-2601E6A1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84A-3447-4AC7-975A-AD6FCED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4F5-3817-46F2-BD56-E6927773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7C4-CAF1-4385-B620-21AA10E3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D0E-BB01-4EB6-9B62-64C8BDA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7FA-C2F8-40F2-B056-65CCEE9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DD1-8015-48C1-8C3A-3D98FF3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AC2-436A-42DC-8A8B-0662C16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D9B-2903-4C79-8DE7-95C741C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BE2-157B-402E-AE19-0603632C6C2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4BE8-EFD8-4D67-A953-29D52441018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w%20to%20Start%20the%20Research.pdf" TargetMode="External"/><Relationship Id="rId2" Type="http://schemas.openxmlformats.org/officeDocument/2006/relationships/hyperlink" Target="file:///Instuction%20to%20Select%20a%20Researh%20Topic.pdf" TargetMode="External"/><Relationship Id="rId3" Type="http://schemas.openxmlformats.org/officeDocument/2006/relationships/hyperlink" Target="file:///Research%20Guide.pdf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onducting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http://www.amazon.com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and Focus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Alternativ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end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nal submission of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and obtain copies of all the relevant material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Process in General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scholarly pap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an initial paper and revise the paper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mplement research idea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coming part of a larger research communit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erenc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For Start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fine the Area of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ine the areas of interes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upply Chain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cent areas of hot analytical re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nterprise resource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ernet security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ust read scholarly journals and technical publication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Combining with Areas of Strength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ta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, read and read more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7-24T05:54:13Z</dcterms:modified>
  <cp:revision>33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